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7C3C-3B03-4107-9BA2-27D11B608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E27C-AFD0-4151-81E4-7DE87DAD7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DE3-B215-4331-B5ED-4B462EFD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56A-CED7-4DAA-9AF8-222457CA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1274-82D2-4048-9B13-D7E53A0A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6A9-CB93-420D-AABF-C043FD00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C086-7EB5-4C13-A6E5-8A3EBE52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579-F5B2-4E2B-BDF6-3CA3B666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0C9-C242-45E4-9527-94F75EF2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195-70AB-46D3-80E2-2F05D2B4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964-BEB0-44E5-9BCF-02B2147C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9541-C8BB-4DBA-ADF4-4E6855BD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809-A8C6-4D0B-BFA4-FFAA36F3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27F-8D4E-4541-B30D-B9225A7F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D56D-E985-465E-AC65-A1F7359D7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portalbrain.com/hellokitty/index.html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mages.google.com/imgres?imgurl=http://www.let.kumamoto-u.ac.jp/eng/Nissan.jpg&amp;imgrefurl=http://www.let.kumamoto-u.ac.jp/eng/BR.htm&amp;h=228&amp;w=342&amp;sz=7&amp;hl=en&amp;start=57&amp;um=1&amp;tbnid=V8J6X6lwDs-LIM:&amp;tbnh=80&amp;tbnw=120&amp;prev=/images%3Fq%3Djapanese%2Bproducts%26start%3D40%26ndsp%3D20%26svnum%3D10%26um%3D1%26hl%3Den%26safe%3Dactive%26rlz%3D1T4SUNA_enUS242US248%26sa%3DN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962520" cy="1219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 1-25 &amp; 2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Guided Reading due next block 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9" descr="gameq"/>
          <p:cNvPicPr/>
          <p:nvPr/>
        </p:nvPicPr>
        <p:blipFill>
          <a:blip r:embed="rId2"/>
          <a:stretch/>
        </p:blipFill>
        <p:spPr>
          <a:xfrm>
            <a:off x="5715000" y="152280"/>
            <a:ext cx="3255840" cy="2186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7"/>
          <p:cNvSpPr/>
          <p:nvPr/>
        </p:nvSpPr>
        <p:spPr>
          <a:xfrm>
            <a:off x="0" y="1143000"/>
            <a:ext cx="3962520" cy="216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1-25 &amp; 26-12  Use pgs. 192-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p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PO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re of which product than any other n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0" y="2514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nswer: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F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0" y="2971800"/>
            <a:ext cx="3962520" cy="1894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pan is a world leader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POR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at produ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0" y="37339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nswer:  automo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2" descr="zzyfz1"/>
          <p:cNvPicPr/>
          <p:nvPr/>
        </p:nvPicPr>
        <p:blipFill>
          <a:blip r:embed="rId3"/>
          <a:stretch/>
        </p:blipFill>
        <p:spPr>
          <a:xfrm>
            <a:off x="5715000" y="4670280"/>
            <a:ext cx="3021120" cy="218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5" descr="nissanz"/>
          <p:cNvPicPr/>
          <p:nvPr/>
        </p:nvPicPr>
        <p:blipFill>
          <a:blip r:embed="rId4"/>
          <a:stretch/>
        </p:blipFill>
        <p:spPr>
          <a:xfrm>
            <a:off x="4343400" y="2384280"/>
            <a:ext cx="3540240" cy="2243160"/>
          </a:xfrm>
          <a:prstGeom prst="rect">
            <a:avLst/>
          </a:prstGeom>
          <a:ln w="0">
            <a:noFill/>
          </a:ln>
        </p:spPr>
      </p:pic>
      <p:sp>
        <p:nvSpPr>
          <p:cNvPr id="56" name="WordArt 36"/>
          <p:cNvSpPr txBox="1"/>
          <p:nvPr/>
        </p:nvSpPr>
        <p:spPr>
          <a:xfrm rot="20254200">
            <a:off x="2982960" y="2068560"/>
            <a:ext cx="298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8064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Japanese Product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8064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Rectangle 37"/>
          <p:cNvSpPr/>
          <p:nvPr/>
        </p:nvSpPr>
        <p:spPr>
          <a:xfrm>
            <a:off x="7162920" y="5257800"/>
            <a:ext cx="3045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8"/>
          <p:cNvSpPr/>
          <p:nvPr/>
        </p:nvSpPr>
        <p:spPr>
          <a:xfrm>
            <a:off x="0" y="4495680"/>
            <a:ext cx="3962520" cy="271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Activity:  Talk with your group and List on paper as many products (Brand name only!) that are made in  Japan….Yes, you can use the intern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 Mazda c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y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u Gi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eamcast S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ke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s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izen W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ji Photo fi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ta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wasa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bota (trac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z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subis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nte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Hello Kitty picture Hello Kitty image Hello Kitty picture gallery download free Hello Kitty wallpaper Hello Kitty screensavers games">
            <a:hlinkClick r:id="rId2"/>
          </p:cNvPr>
          <p:cNvPicPr/>
          <p:nvPr/>
        </p:nvPicPr>
        <p:blipFill>
          <a:blip r:embed="rId3"/>
          <a:srcRect l="0" t="-807" r="73589" b="0"/>
          <a:stretch/>
        </p:blipFill>
        <p:spPr>
          <a:xfrm>
            <a:off x="914400" y="304920"/>
            <a:ext cx="1143000" cy="609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4648320" y="0"/>
            <a:ext cx="4267080" cy="78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DK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m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zu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p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ko W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lo Kit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VC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lot p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ga (Anime)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Nissa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34320" y="380880"/>
            <a:ext cx="1676160" cy="1117800"/>
          </a:xfrm>
          <a:prstGeom prst="rect">
            <a:avLst/>
          </a:prstGeom>
          <a:ln w="0">
            <a:noFill/>
          </a:ln>
        </p:spPr>
      </p:pic>
      <p:sp>
        <p:nvSpPr>
          <p:cNvPr id="63" name="Action Button: Movie 5"/>
          <p:cNvSpPr/>
          <p:nvPr/>
        </p:nvSpPr>
        <p:spPr>
          <a:xfrm>
            <a:off x="7848720" y="38098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653"/>
                </a:moveTo>
                <a:lnTo>
                  <a:pt x="4707" y="8653"/>
                </a:lnTo>
                <a:lnTo>
                  <a:pt x="5090" y="9018"/>
                </a:lnTo>
                <a:lnTo>
                  <a:pt x="14299" y="9018"/>
                </a:lnTo>
                <a:lnTo>
                  <a:pt x="14856" y="9575"/>
                </a:lnTo>
                <a:lnTo>
                  <a:pt x="14856" y="10124"/>
                </a:lnTo>
                <a:lnTo>
                  <a:pt x="16701" y="10124"/>
                </a:lnTo>
                <a:lnTo>
                  <a:pt x="17067" y="9575"/>
                </a:lnTo>
                <a:lnTo>
                  <a:pt x="17806" y="9575"/>
                </a:lnTo>
                <a:lnTo>
                  <a:pt x="17806" y="14728"/>
                </a:lnTo>
                <a:lnTo>
                  <a:pt x="17067" y="14728"/>
                </a:lnTo>
                <a:lnTo>
                  <a:pt x="16701" y="14180"/>
                </a:lnTo>
                <a:lnTo>
                  <a:pt x="14856" y="14180"/>
                </a:lnTo>
                <a:lnTo>
                  <a:pt x="14856" y="15459"/>
                </a:lnTo>
                <a:lnTo>
                  <a:pt x="5273" y="15459"/>
                </a:lnTo>
                <a:lnTo>
                  <a:pt x="5273" y="11229"/>
                </a:lnTo>
                <a:lnTo>
                  <a:pt x="5090" y="11229"/>
                </a:lnTo>
                <a:lnTo>
                  <a:pt x="4707" y="11595"/>
                </a:lnTo>
                <a:lnTo>
                  <a:pt x="3794" y="1159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6629400" y="464832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view Japanese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04920" y="22860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Japanese houses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traditional Japanese house, you don't sit on chairs or sleep on beds. You sit and sleep on the floor using cushion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dding. The way the Japanese room is designed makes this possible; it evolved over time as an extension of the way people live and as an expression of the native cul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oday, when Western-style rooms with chairs and beds are common, most houses have at least one room in the traditional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ggest feature of the Japanese room is that the floor is mad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ta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traw mats). The mats are rectangular and measure around 1.7 square meters (about 18 square feet); the number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ta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ts is usually the way the size of rooms is measu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Western-style houses became common, the Japanese room had no windows. It was partitioned with sliding, paper-screen doors call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oj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su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uring the daytime the room serves as a living and dining room, and at night, it can be used as a bedroom by laying out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t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ut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folded up in the morning and stored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shi-i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lose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Japanese-style room"/>
          <p:cNvPicPr/>
          <p:nvPr/>
        </p:nvPicPr>
        <p:blipFill>
          <a:blip r:embed="rId2"/>
          <a:stretch/>
        </p:blipFill>
        <p:spPr>
          <a:xfrm>
            <a:off x="2971800" y="4648320"/>
            <a:ext cx="4114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great-wave"/>
          <p:cNvPicPr/>
          <p:nvPr/>
        </p:nvPicPr>
        <p:blipFill>
          <a:blip r:embed="rId2"/>
          <a:stretch/>
        </p:blipFill>
        <p:spPr>
          <a:xfrm>
            <a:off x="762120" y="0"/>
            <a:ext cx="7162560" cy="4572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57200" y="46483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tsushika Hokusai (September 23, 1760-April 18, 1849) was a Japanese painter and printmaker from the Edo Period. He is most famous for his series of prints called "Thirty-Six Views of Mount Fuji" (produced during the period 1826-1833). One of these views, "The Great Wave Off Kanagawa," has become a modern-day icon. Hokusai's seemingly timeless images are almost 200 years o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5105520" y="6248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kusai and online pa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21:34:44Z</dcterms:created>
  <dc:creator>Selena Ramsey</dc:creator>
  <dc:description/>
  <dc:language>en-US</dc:language>
  <cp:lastModifiedBy>poweruser</cp:lastModifiedBy>
  <dcterms:modified xsi:type="dcterms:W3CDTF">2012-01-27T13:41:28Z</dcterms:modified>
  <cp:revision>99</cp:revision>
  <dc:subject/>
  <dc:title>Slide 1</dc:title>
</cp:coreProperties>
</file>